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BA4F8-8C4D-4D1D-B027-AA7D7DA1D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C114A-2EBF-4E27-A535-4D1A93A8B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BB3C3-3CF2-489D-8136-C4AE064DE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E0777-21FF-4FF4-9862-A9A0F5B06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EB280-CBC1-4741-A662-A16DA87BD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BA76EA-7978-4F6F-8A73-F797731457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4CF8BDF0-4C56-4733-B3C8-BB0B447D85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C232940D-DA7A-4807-B435-0B598EB2F9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E7E89540-C03E-484B-91A8-B755AAC710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DFB98DFF-3018-47F6-8604-99D693354D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0D9AA-4A01-4269-9AF6-D1848A9BF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44B060FF-8D8E-4AA3-ABF8-E5D5FE930A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8BA79428-5D77-4E3D-B955-D00EE59A64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72E26754-765A-42A0-B4C7-A7293169D8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69D26021-FE02-49A0-93AF-4FB7BD22C5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7AF4772-4758-46F4-B3AE-72BB1E21A8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84012A7B-6BD0-4EE2-9185-F886B86E29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906F5BE2-4CFF-434E-8A13-06F17E014B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583EC-7B2F-4F43-92CE-46D45E236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6AEC5-3A6D-44D8-8E7C-F6C0B67FC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52985-96BE-45F3-ACF1-62510FE40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EC236-F8DD-439B-88E2-4158DAC9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6A65E-2DDA-446C-8542-CAD06D93E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A24FD-CB84-4461-A503-55B169134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741A5E9A-BA9A-4860-876F-72959994173C}"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62856807-5339-45A4-9F67-2BE4197F0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4EE95D-9D2F-448C-B3B0-77B2BE695C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B1B156-878B-4548-A54B-803325D91D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CB3777-CB76-4C7D-B3AE-98364090F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C92FE3-AAA4-4984-84D1-E39F73BDA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6D27E1-5CE7-4337-8326-A6A46D3C0E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87470E-83B7-43F8-BCBB-1352BC3CD1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33980D-D053-4753-A72D-9100F6391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1F8116-4E7D-42DF-8E27-273915E87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5FD5F0-A2F3-443C-9A1A-45677983A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CC94B1-2991-4FE5-AB18-1A2B854A0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EAE910-37E0-4C96-A72C-71B149EDEF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FBCD74-FE6C-4291-B5DD-62EC9DD84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C999AE-3C4F-49A4-8A25-11871B946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F54683-338D-4D44-927B-BBD08A83D2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5362B7-AEF2-425D-A953-5576352C55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C4FC65-31D8-4C28-BC82-7B083D8A8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99F6B5-31B7-4EF9-86E6-92213B780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v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rval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A54A71-9E94-4971-AD9F-3CC81488B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IPv6-based data exchange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3A699C-55A9-45C1-A276-501822FB5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ECE86D-EC8F-4AA8-9647-134F1B39D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4A036A-D49C-4BD7-9099-0A3BB00B3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18B33D-EF5C-4512-AB05-152BA196D5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0995E5-7B3A-41E6-A9CE-257091EF2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D40341-192F-4E51-9C5F-A8025E884B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010D1D-6727-40C1-8D78-9953146F1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D4D526-9B79-482D-8CF5-6D0CE2E85B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B848BC-FC61-4BE8-8DF9-1D7A4A9DA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642C22-7F51-4908-AEE1-056E2C266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403216-6A37-481F-9DDC-5E0E1F253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079DC4-A51F-4BD9-90ED-AF640E87C9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C445A7-82A3-4730-9858-0B1B0534B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2DBDE0-EB0C-4FC7-A635-356215EF6F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D21F81-1EF4-49CA-972A-7836E9A45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82D69F-99F0-495E-B24F-7D68BAA4F9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5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6E9D3B-64AF-4CC2-8DCE-1008A912A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DD903A-848D-4566-BA19-7B3637B77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B7B84B-3784-4AB2-B24B-3F139E2F5F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47A310-9797-4E53-9019-C7935CBC3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7CD72C-40DD-440F-9B82-EC6A4953A4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8C4E09-1DD7-4B8D-87DF-06561777A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0987F1-6F5F-4015-8D3A-E4A11EF99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9348F1-681A-46FB-89A3-02733692D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6EFDFE-C31A-4DE5-8903-F535C055AF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7EA516-E820-4E40-9BE5-3C7856F1B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DAA13E-A6FA-4381-8FED-572D80124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50323D-1F8F-402E-8DB4-E39CB904E5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9BB02A-2D88-46C7-8F2C-D247D60D3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A9FAF8-F3E7-41F5-BC9B-D62B569E1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22DFAC-3533-4211-AC96-2F75C2805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A90F17-9E56-4E61-9BF9-45455EAF4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7F4C8E-7479-42A7-80F5-BB18F8565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8A54D3-9E23-404B-BA96-AF3DEA4BC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CA0E2C-A2ED-4856-8D27-E2B5FEE96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7A9E84-89C1-4731-A181-F449D8D3FC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598C44-F710-4AB5-88F9-F1257B7CA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A9CCE5-2379-4955-8651-E4C284F1D4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5CDF84-BC39-4E76-BDC7-885900252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540AD2-6A45-4D55-AFAD-A178DB9ED4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B94BEE-C91E-445B-9B40-D2DFD45DC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2AC9E7-C6EC-48C6-8AAB-7E853B1C0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14ECC4-8BAD-4A90-A4DF-D85C9E9C91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7A09E2-6F8C-46E5-988B-1316BFACF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E0D6B5-CDEA-4BFE-9104-27D0F3A88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0C8DB2-FA75-4EA4-9753-C718C765C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4BB112-2103-4840-8CF8-3B604EDD26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49BBD1-15E2-4A3D-B6A4-7D34B5251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511D99-11D0-42F1-AF98-7E3732117E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8D20F0-6A13-40C9-827C-89A1BCCCD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95D90D-2712-4941-96E0-20644DA0C0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AB5CA9-B8EA-46BE-A61F-9A933140BA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EBD4CC-ECB8-485B-BD01-D47C1D5E5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184C40-FD47-4902-AFD4-4595E6E87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585096-03E8-4F34-8811-B72611D71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724C90-A6AE-4F6D-AC33-1F67F918C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74342A-1BA4-4E58-ACE5-CAB7984A2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21C071-CCE6-43DA-A4E1-5E39331B71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6A18E2-591C-45CE-BE0B-50349F92E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AE660F-6C45-4487-B0CD-EFF980740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EE1CBC-B42C-4049-9564-3BAB74306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B968FF-CD60-4FA9-91DA-729699F58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C8B756-F63C-4818-9A85-CA4F00DB65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1B0725-E4E5-4693-A157-4A9C0D42C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288368-E8B1-4D0F-902F-7208CF6CC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DDE4ED-AD98-4661-8F40-1239F8282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264673-19C0-4E67-AD52-A867CC441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F44D14-12C9-4184-A3A9-89FCC0A77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284539-5616-4477-97C6-CEEE93323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96993A-3075-4828-B7FC-8A42A1651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7531C3-F4B7-42B5-A95D-84731DCBE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0E0943-B940-4180-9281-94B33DECCE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5F960D-49F5-4B15-906E-669BD9F4B0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57D44E-D39D-46A7-B21B-890E6930F3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873378-05CA-40F0-BB61-98BCD5BE3F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B80B34-2A05-473C-8288-B0BB3E3CB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AEBF51-4538-4327-912F-202C0EE6B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F0800C-A9D5-420F-8F5F-87357C806D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017EBE-F3E1-4649-A74C-7BDFF82EF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A67B20-8F1E-458D-9876-7E5E109F6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275FA6-D83E-48E6-BE70-44EB8CE0AA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15A804-F12C-4B2D-BB9C-97BE7A565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DADEBE-430B-474B-A401-9AC156D5D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CE98BF-A1D5-47E9-8F84-4A53DD1A3B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888572-3735-4E75-AEE0-609802CAE9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7BE157-2F73-44E7-9BE4-8C13B6B14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1E8963-F360-42B9-A062-A1FFE85A4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B6DF2E-6FB3-48B7-B505-085410DD86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C33AC8-6148-4637-A5E3-0FAB7CA6C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BFB6CE-3C97-451E-BDE6-DAE7162CB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D849CC-0866-453F-8505-14ED035C4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557FCD-60BE-4DF2-B2B4-4CCC13E62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44C7BB-59A9-46B1-AE28-B3D52A087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A1F0AA-B7DB-42A9-9A51-CB59A024F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75B978-0727-41C0-8F29-88A8BC1579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9E0359-0A37-4774-80BE-294EB47D91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1AB184-1B70-4B90-8A1C-EE490B210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38B449-446C-4F82-A3A7-24E4B89687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AA3A66-1156-480B-9C5A-B62B652DF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F14B51-EE63-425B-9C10-701A5771F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FA4B1A-2F93-4F9D-8547-3ED27BE52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F1BADB-8EE0-4CA2-994B-599E527A9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A9CDED-489F-45E3-8C8D-1F4E74A02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F5EF5A-DCAC-4B8C-B53B-54C70B2EB2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B0EA10-08E7-4F4A-95C6-1EDE55068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7-02T17:44:05Z</dcterms:modified>
  <cp:revision>874</cp:revision>
  <dc:subject/>
  <dc:title>Agena Language Summary</dc:title>
</cp:coreProperties>
</file>